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4BAC-22F4-4DB7-B019-58BB2EEE7C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N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particles (grey) covering a white blood cel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particles (grey) covering a white blood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HIV look lik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itial infection- flu like symptoms a few weeks after infe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1-HIV positive with no symptoms- can stay at this stage for up to 10 years, but still can pass on the viru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2-HIV positive with symptoms- at this point the person is said to have AIDS. Symptoms include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ollen glands, chronic diarrhea, loss of weight and appetite, fever, fatigue, skin rashes (lesions), night sweats, oral thrush.  Life expectancy: 2 to 5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HIV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infection- flu like symptoms a few weeks after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-HIV positive with no symptoms- can stay at this stage for up to 10 years, but still can pass on the vi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2-HIV positive with symptoms- at this point the person is said to have AIDS. Symptom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ollen glands, chronic diarrhea, loss of weight and appetite, fever, fatigue, skin rashes (lesions), night sweats, oral thrush.  Life expectancy: 2 to 5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ath and A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III-Full blown AIDS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 dies of rare opportunistic infections that take advantage the weakened immune system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 dies in a matter of month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DS related illnesses include rare cancers and Pneumoni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and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III-Full blown AID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dies of rare opportunistic infections that take advantage the weakened immune syst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dies in a matter of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S related illnesses include rare cancers and Pneu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ges of HIV Inf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ges of HIV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His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is thought to have entered into humans somewhere between 1914 and 194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1983, a retrovirus, now called human immunodeficiency virus (HIV), had been identified as the cause of AI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IV antibody test has be used to screen all blood supplies in the U.S. since 1985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ople receiving blood or blood products before 1985 may have been infec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is thought to have entered into humans somewhere between 1914 and 194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83, a retrovirus, now called human immunodeficiency virus (HIV), had been identified as the cause of A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V antibody test has be used to screen all blood supplies in the U.S. since 198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receiving blood or blood products before 1985 may have been inf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D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quired Immune Deficiency Syndro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mune crippling disease caused by the HIV virus in which the body becomes unable to protect itself against any secondary infe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-Human Immunodeficiency Vir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infects the immune system cell called the Helper T cells (-most important white blood cell involved in identifying infections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red Immune Deficiency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mune crippling disease caused by the HIV virus in which the body becomes unable to protect itself against any secondary inf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-Human Immunodeficiency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infects the immune system cell called the Helper T cells (-most important white blood cell involved in identifying infection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Fluids with High Concentrations of HI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men/Vaginal fluids (as high as bloo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st mi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s from so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Fluids with High Concentrations of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en/Vaginal fluids (as high as blo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s from s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 concentrations of HI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highly unlikely you will be infected if you come into contact with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liva (-highly possible if blood from mouth sores is presen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concentrations of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highly unlikely you will be infected if you come into contact wit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(-highly possible if blood from mouth sores is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s HIV Sprea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 type of sexual activity (highest ris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ing used drug need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gnancy-from mother to chi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ing razors- if blood is pres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ssing- if even the smallest amount of blood is present. (-membranes of mouth are thin enough for HIV to enter straight into the body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ttoos/body piercing if equipment is not clea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HIV Sprea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type of sexual activity (highest r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 used drug nee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gnancy-from mother to ch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 razors- if blood i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ssing- if even the smallest amount of blood is present. (-membranes of mouth are thin enough for HIV to enter straight into the body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ttoos/body piercing if equipment is not cl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s HIV not sprea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king ha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gg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imming po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ilet sea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ect bi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nating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HIV not sprea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king h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g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mming p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ilet se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ct b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ating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HIV be cur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! Drugs are available to manage the disease, but HIV stays in the body forever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LEM: RNA viruses mutate at a very high rate.  A person with HIV under control can evolve resistance to the drug treatm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infected persons have several strains of HIV in their bod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HIV be cu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! Drugs are available to manage the disease, but HIV stays in the body forev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RNA viruses mutate at a very high rate.  A person with HIV under control can evolve resistance to the drug treat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fected persons have several strains of HIV in their 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9A56-36EF-49B8-8E40-62514FC0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6819-9B3F-4DCA-B8B8-0829917E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3938-A683-4F08-AF01-31C4B26FD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5D06-5D09-41EE-8B3D-E14EEEAB6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F13C-C989-4DE6-B2FB-DD1984D5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F571-91FF-426E-8EDE-3B318A18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CF00-10CD-4574-964C-567D7ECB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A472-2546-4839-ADFD-EB78C646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745D-F9F5-4906-80E9-2C4F1ACF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49A8-999D-4A1F-A3BF-B0B7EBC9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4EB4-9C41-4FEC-B451-48F806B2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68C7-86FB-4365-B3CF-C2AC2318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3922-F5C5-4FE8-A232-E1D239D4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D564-87DC-449B-9164-A79662D3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3406-9DE9-46C7-84B0-0D45AE4D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03F0-349B-4067-95A6-87F62185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27D9-8958-4859-8497-EB6B94E59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453D-9A5D-4F73-A470-8C60DA86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DD96-14FD-4D62-B177-50FC764E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F7FD-6B83-45AF-AFE6-AA6817DC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375C-0B99-4D14-814A-1E40DC86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6E66-3AE2-4F4C-9127-D7F98BEE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0953-9883-4E7A-8A94-F681DC7C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7049-8B9E-46D1-9425-FFD3D495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271D-9F97-4B8E-954D-CE5F27E428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DD07-6388-4497-A3A7-65296CE32F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1904760"/>
            <a:ext cx="4572000" cy="15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HIV Notes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4249800" y="0"/>
            <a:ext cx="48942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3962520" y="563868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IV particles (grey) covering a white blood c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at does HIV look like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nitial infection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lu like symptoms a few weeks after infe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tage 1-HIV positive with no symptoms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n stay at this stage for up to 10 years, but still can pass on the vir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tage 2-HIV positive with symptoms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this point the person is said to hav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I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Symptoms inclu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ollen glands, chronic diarrhea, loss of weight and appetite, fever, fatigue, skin rashes (lesions), night sweats, oral thrush.  Life expectancy: 2 to 5 ye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ath and AI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age III-Full blown AIDS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 dies of rare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opportunistic infec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take advantage the weakened immune syste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 dies in a matter of mon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DS related illnesses include rare cancers and Pneumon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609480" y="137160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def9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rcRect l="1200" t="1664" r="1200" b="4323"/>
          <a:stretch/>
        </p:blipFill>
        <p:spPr>
          <a:xfrm>
            <a:off x="0" y="506520"/>
            <a:ext cx="9144000" cy="63514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523880" y="152280"/>
            <a:ext cx="6375600" cy="400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ages of HIV Infe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V His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V is thought to have entered into humans somewhere between 1914 and 194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1983, a retrovirus, now called human immunodeficiency virus (HIV), had been identified as the cause of AI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HIV antibody test has be used to screen all blood supplies in the U.S. since 198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 receiving blood or blood products before 1985 may have been infec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HIV_sta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IDS</a:t>
            </a:r>
            <a:br>
              <a:rPr sz="4000"/>
            </a:b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quire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mun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D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ficienc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S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yndrome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mmune crippling disease caused by th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IV vir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which the body becomes unable to protect itself against any secondary inf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IV-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H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uman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munodeficienc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V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V infects the immune system cell called th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elper T cel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-most important white blood cell involved in identifying infections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685800" y="175248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ody Fluids with High Concentrations of HIV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men/Vaginal fluids (as high as bloo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st mi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s from s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533520" y="1600200"/>
            <a:ext cx="8076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01-01_microorganisms_1"/>
          <p:cNvPicPr/>
          <p:nvPr/>
        </p:nvPicPr>
        <p:blipFill>
          <a:blip r:embed="rId1"/>
          <a:srcRect l="68232" t="47288" r="1795" b="13729"/>
          <a:stretch/>
        </p:blipFill>
        <p:spPr>
          <a:xfrm>
            <a:off x="3962520" y="2895480"/>
            <a:ext cx="4876560" cy="373536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ow concentrations of HIV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9246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highly unlikely you will be infected if you come into contact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iva (-highly possible if blood from mouth sores is pres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762120" y="144792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is HIV Spread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type of sexual activity (highest ris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used drug need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gnancy-from mother to chi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razors- if blood is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ssing- if even the smallest amount of blood is present. (-membranes of mouth are thin enough for HIV to enter straight into the body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ttoos/body piercing if equipment is not cle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is HIV not spread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king h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ming p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ilet se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ect b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ating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685800" y="129528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n HIV be cured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!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rugs are available to manage the disease, but HIV stays in the body forev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BL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RNA viruses mutate at a very high rate.  A person with HIV under control can evolve resistance to the drug treat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infected persons have several strains of HIV in their bod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457200" y="129528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03:18:47Z</dcterms:created>
  <dc:creator>Allen Berard</dc:creator>
  <dc:description>HIV retrovirus disease</dc:description>
  <cp:keywords>HIV retrovirus disease</cp:keywords>
  <dc:language>en-US</dc:language>
  <cp:lastModifiedBy>LEGION2</cp:lastModifiedBy>
  <dcterms:modified xsi:type="dcterms:W3CDTF">2016-01-14T10:08:40Z</dcterms:modified>
  <cp:revision>13</cp:revision>
  <dc:subject>HIV retrovirus disease</dc:subject>
  <dc:title>HIV retrovirus disease</dc:title>
</cp:coreProperties>
</file>